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CC9-0A21-4156-8D4D-ED51D61B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7D4-C28C-4A79-AC50-7F6EEE3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5ED-9D55-4F61-AB80-3D5DC52D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C9D-4CD8-4CA2-9790-1A4A1A2A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C3C-0A16-46CA-B9D7-46403C1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589-28F5-4CEE-970D-E778E1CD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6DA-1A92-43EC-BA06-8546B398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28B-70BF-426B-A4AA-4C6189EC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694-4C19-4FAE-A1D0-70A408B5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6BA-CC4D-4567-8F48-F180BA0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C04-AE35-421D-B664-06C4AC4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E30-879E-4E75-9CD2-24C7DAF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3826-57CF-43C9-9BE3-8E6B37377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La valeur des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54080"/>
            <a:ext cx="28958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peux lire  et écrire des nombres décim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peux additionner, soustraire, multiplier et même diviser des nombres décim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u peux résoudre des problèmes qui comportent des nombres décim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8660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n 1924, la moyenne au bâton de Babe Ruth a été de 0,37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Le tableau suivant peut t’aider à lire les nombres décimaux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47920" y="3733920"/>
          <a:ext cx="6553080" cy="239220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  <a:gridCol w="81900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 de mi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a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a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xiè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è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è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x-milliè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15200" y="9907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Indique la valeur de position du chiffre souligné dans chacune des moyennes au bâton suivante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3429000"/>
          <a:ext cx="7162920" cy="3105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DiMa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e M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k Aa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5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 R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48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Br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9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B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</a:t>
                      </a: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62920" y="1523880"/>
            <a:ext cx="156996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Les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Ecris les nombres décimaux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a-trois dix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b-trois cent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c-quatre-vingt-douze dix-mill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d-quarante et un cent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-quatre mill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f-treize milli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91320" y="4237200"/>
            <a:ext cx="281916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2:28:02Z</dcterms:created>
  <dc:creator>nbdoe</dc:creator>
  <dc:description/>
  <dc:language>en-US</dc:language>
  <cp:lastModifiedBy>nbdoe</cp:lastModifiedBy>
  <dcterms:modified xsi:type="dcterms:W3CDTF">2008-10-03T13:42:31Z</dcterms:modified>
  <cp:revision>3</cp:revision>
  <dc:subject/>
  <dc:title>Les nombres décimaux</dc:title>
</cp:coreProperties>
</file>